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C1CD-96C6-4A03-8BBA-F282B068F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2F76-7281-4242-8B64-09086A2D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282B-3F61-43C5-99EA-B0374EBC7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2709-6CE8-4F7C-89A7-00E9694D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CA7E-23D7-44E6-A403-EDF7D412F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BA34-733E-4071-8BDC-B9EDB3EB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E663-F1DC-4BAC-B5D9-1AF02A4E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45E6-9CD0-45C8-ABD0-1A193BD6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609D-17DF-412F-B9F4-B4745035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BC74-72CC-4439-A36F-28164C6A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72B4-8DDB-45EE-AA74-4E200543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FF91-DF25-4482-9E17-70D1223C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EEC0-AB8A-4E63-AD62-FA0E591A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FEC8-96F7-4893-93BD-7391801B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C375-9EAA-4F6C-8DAB-3059EBED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C506-56F6-45B0-B9E2-1272FC9A9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EC23-22D5-40CE-B414-E718057CD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A030-B68E-4546-B56D-467906AF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3E04-4646-4F4A-84AE-5D2CD197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CB39-9860-4EBA-9472-969C2BAC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FE5B-1C76-443E-AAE1-08ED1D8B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18F9-E496-4461-8874-AA73A9C4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9778-2662-4078-82C2-311D83B5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DF33-0AC7-479A-A4A8-E9FC654E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EF39-CB4C-4F75-9CDD-5CBF97C7B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646C-70A2-4F0B-8B5C-4B4117DE3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cience.howstuffworks.com/nanotechnology.htm" TargetMode="External"/><Relationship Id="rId2" Type="http://schemas.openxmlformats.org/officeDocument/2006/relationships/hyperlink" Target="http://www.nanotechnology.com/" TargetMode="External"/><Relationship Id="rId3" Type="http://schemas.openxmlformats.org/officeDocument/2006/relationships/hyperlink" Target="http://www.science-engineering.net/nanotechnology-masters.htm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6407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000000"/>
                </a:solidFill>
                <a:latin typeface="Fiolex Girls"/>
              </a:rPr>
              <a:t>Nanotechnology</a:t>
            </a:r>
            <a:endParaRPr b="1" lang="en-US" sz="8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74320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ia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za 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yshnavy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3666960"/>
            <a:ext cx="2843280" cy="319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Ethical Issue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Palatino Linotype"/>
              </a:rPr>
              <a:t>It is right beca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1. It will make world a better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2. It is likely to reduce other ethical issues (e.g., constructing cells rather than getting them from reproduc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3. It will give us more “god-like” pow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Palatino Linotype"/>
              </a:rPr>
              <a:t>It is wrong beca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1. It will give us more “god-like” pow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2. It may lead to undetectable surveillance; right to privacy could be at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Branches of Science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Palatino Linotype"/>
              </a:rPr>
              <a:t>Branches of sciences needed to study this technology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240" indent="-32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Materials sci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56320" indent="-506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applied physics and chemistry, as well as chemical, mechanical, civil and electrical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56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240" indent="-32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Natur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56320" indent="-506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nanotechnology, physics, chemistry, astronomy, molecular biology and m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56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240" indent="-32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Computer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56320" indent="-506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the science of the theoretical foundations of information and computation and their implementation and application in comput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Universitie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00000" y="1844640"/>
            <a:ext cx="82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Palatino Linotype"/>
              </a:rPr>
              <a:t>Universities that provide this course ar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Universities in our ar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Palatino Linotype"/>
              </a:rPr>
              <a:t>1.  University of Toronto - Bachelor of Science in Engineering Science with Nano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Palatino Linotype"/>
              </a:rPr>
              <a:t>2.  University of Waterloo - Bachelor of Applied Science degree in Nanotechnology Engineering program as well as nanotechnology research in camp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Universities out of our ar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Palatino Linotype"/>
              </a:rPr>
              <a:t>1.  City University of New York - offers a Ph.D. in Nanotechnolog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Palatino Linotype"/>
              </a:rPr>
              <a:t>2.  University of Washington - Ph.D. in Nanotechnol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Career Opportunitie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Palatino Linotype"/>
              </a:rPr>
              <a:t>Career opportunities exist in areas such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Palatino Linotype"/>
              </a:rPr>
              <a:t>Auto and aerospace indust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Palatino Linotype"/>
              </a:rPr>
              <a:t>Sports equi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Palatino Linotype"/>
              </a:rPr>
              <a:t>Biotechnol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Palatino Linotype"/>
              </a:rPr>
              <a:t>Medical fiel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Palatino Linotype"/>
              </a:rPr>
              <a:t>Optoelectron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Palatino Linotype"/>
              </a:rPr>
              <a:t>Environmental monitoring and contr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Palatino Linotype"/>
              </a:rPr>
              <a:t>Food sci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Palatino Linotype"/>
              </a:rPr>
              <a:t>University lab resear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716440" y="2060640"/>
            <a:ext cx="292896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Bibliography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Palatino Linotype"/>
                <a:hlinkClick r:id="rId1"/>
              </a:rPr>
              <a:t>http://science.howstuffworks.com/nanotechnology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Palatino Linotype"/>
                <a:hlinkClick r:id="rId2"/>
              </a:rPr>
              <a:t>http://www.nanotechnology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Palatino Linotype"/>
              </a:rPr>
              <a:t>http://www.understandingnano.com/nanotech-application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Palatino Linotype"/>
                <a:hlinkClick r:id="rId3"/>
              </a:rPr>
              <a:t>http://www.science-engineering.net/nanotechnology-masters.htm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Palatino Linotyp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Palatino Linotype"/>
              </a:rPr>
              <a:t>http://www.nanotech-now.com/introductio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Palatino Linotype"/>
              </a:rPr>
              <a:t>http://royalsociety.org/page.asp?id=24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Palatino Linotype"/>
              </a:rPr>
              <a:t>http://www.livescience.com/nanotechnolog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Palatino Linotype"/>
              </a:rPr>
              <a:t>http://www.ethicsweb.ca/nanotechnology/bibliography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Palatino Linotype"/>
              </a:rPr>
              <a:t>http://www.actionbioscience.org/newfrontiers/chen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7640" y="188640"/>
            <a:ext cx="8385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What is Nanotechnology?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Palatino Linotype"/>
              </a:rPr>
              <a:t>Basic Definition: </a:t>
            </a:r>
            <a:r>
              <a:rPr b="1" lang="en-US" sz="1800" spc="-1" strike="noStrike">
                <a:solidFill>
                  <a:srgbClr val="080808"/>
                </a:solidFill>
                <a:latin typeface="Palatino Linotype"/>
              </a:rPr>
              <a:t>Technology of building or creating  products such as electronic circuits from single atoms and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Palatino Linotype"/>
              </a:rPr>
              <a:t>Deals with the making of materials by molecular self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Palatino Linotype"/>
              </a:rPr>
              <a:t>Rearranging atoms to ge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Palatino Linotype"/>
              </a:rPr>
              <a:t>Manufactured produ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Palatino Linotype"/>
              </a:rPr>
              <a:t>made from 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Palatino Linotype"/>
              </a:rPr>
              <a:t>Properties of produ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Palatino Linotype"/>
              </a:rPr>
              <a:t>depends on how atoms are arr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For instance,</a:t>
            </a:r>
            <a:r>
              <a:rPr b="1" lang="en-US" sz="1800" spc="-1" strike="noStrike">
                <a:solidFill>
                  <a:srgbClr val="080808"/>
                </a:solidFill>
                <a:latin typeface="Palatino Linotype"/>
              </a:rPr>
              <a:t> if we rearrange  the atoms of coal, we can make diamond if we rearrange the atoms in dirt water or air, we can end up with potato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Nanotechnology in the future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4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Palatino Linotype"/>
              </a:rPr>
              <a:t>In the future nanotechnology c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1.  Easily move and put atoms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2.  Be accomplished inexpensive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3.  Be accomplished with help by the laws of phy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4.  Help us make products more cleaner, stronger, lighter and more prec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435640" y="4581360"/>
            <a:ext cx="2849400" cy="198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How can Nanotechnology help us?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Palatino Linotype"/>
              </a:rPr>
              <a:t>Nanotechnology will help u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1.  Develop new manufacturing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2.  Help us build computer systems inexpensively with mole qua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16000" y="3284640"/>
            <a:ext cx="7343640" cy="332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What will nanotechnology assure?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Palatino Linotype"/>
              </a:rPr>
              <a:t>Nanotechnology will assure tha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1.  Every atom is in the right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2.  Make almost all products with the help of laws of phy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3.  Manufacturing prices will not go higher than the price at which the raw materials were bought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76720" y="3933720"/>
            <a:ext cx="3047760" cy="26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Application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Palatino Linotype"/>
              </a:rPr>
              <a:t>Improved produ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rely on change in physical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Palatino Linotype"/>
              </a:rPr>
              <a:t>Nanopartic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take advantage of increased surface area over volume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trongly change the mechanical properties of mate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(e.g. makes it light and increases stabilit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286680" y="378936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Medicine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With the help of Nanoparticles, which are the size of molecules, drugs can directly be delivered to diseased cells in the bo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Palatino Linotype"/>
              </a:rPr>
              <a:t>Drug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Iron nanoparticles or gold shells  can be used to treat 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Palatino Linotype"/>
              </a:rPr>
              <a:t>Tissue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80808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Nanotechnology can help reproduce and repair damaged t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132000" y="4508640"/>
            <a:ext cx="3305160" cy="22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Energy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Nanotechnology helps reduce waste and materials and enhances renewable energy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Palatino Linotype"/>
              </a:rPr>
              <a:t>Recycling of Batt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Batteries have low energy density and it also needs rechar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Can lead to disposal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Nanomaterials can be used to help increase higher rate of recharging and energy of batte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This is essential for disposal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796000" y="4508640"/>
            <a:ext cx="2819520" cy="211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Safety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Concerns exist about the possible impacts of manufactured nanoparticles and nanotubes that are free to move a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Free nanoparticles could be inhaled or enter the body through the skin, and cause damage to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Nanoparticles can affect plants and animals by entering the food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Nanotubes, when inhaled, can cause respiratory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mall sensors can be used to spy on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59280" y="4221000"/>
            <a:ext cx="320328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23:31:22Z</dcterms:created>
  <dc:creator> WaRRioR</dc:creator>
  <dc:description/>
  <dc:language>en-US</dc:language>
  <cp:lastModifiedBy>Faiza</cp:lastModifiedBy>
  <dcterms:modified xsi:type="dcterms:W3CDTF">2008-12-19T02:11:15Z</dcterms:modified>
  <cp:revision>64</cp:revision>
  <dc:subject/>
  <dc:title>Nanotechnology</dc:title>
</cp:coreProperties>
</file>